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B90-5ED3-4CFA-9627-F8A631E1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620-92AA-4E79-9268-A1D95C60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35A-2477-4914-9B4C-70C7E1BB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14A-1FD0-4D37-917D-371880F4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260-E7F2-4960-9D7E-0496065C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264-7BBF-4D4D-AD49-67CAA5E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B1A-F242-47FC-9870-96DF760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1F2-AA23-4E47-AD67-A36ABC2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3D9-576D-4ABE-B54E-2905FEC4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8A1-6EB1-4F77-BDEF-06348DE2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C94-A5F7-4D2B-B7C7-3511FDC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D6E-F1C9-49C6-8E93-FE7DABC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3C2-A1C1-4D62-8D3D-734FF215F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aracter, incident, and detail contributes to an overall i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scription p. 313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ffered much from a morbid acuteness of the sen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never ventured for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Mad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ved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 comp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decease, would leave him the last of the ancient race of the Ush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ffl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dual wasting away of the person…cataleptical…unusual diagno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uccumbed to the prostrating power of the destroy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Usher send for the Narr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unted Palace”  Roderick’s fear of ma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demise of the U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lace stands for a human head and mind.  A disordered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anza imagery suggest presence of ma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poem &amp; published 5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Haunted Palace I mean to imply a mind haunted by phantoms—a disordered brai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ong...R + H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is set in bleak or remote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ot involves macabre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are in psychological and/or physical to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pernatural or otherworldly element is often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the House of 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’s ef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writing often accented the fantastic aspects of huma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erick U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line Us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 m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ll, dark, and soundless day in the autumn of the ye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res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ak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nt eyelike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ed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sion of glo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INGL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or &amp; U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ach other as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her send him a lett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evidence of a nervous agit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er spoke of acute bodily illn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ntal disorder which oppressed hi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her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ien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d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m of the Usher race…had put forth…any enduring branch:  in other words, that the entire family lay in the direct line of desc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is defiencey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overspread the whole ex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rely perceptible fissure, which, extending from the roof of the building in front, made its way down the wall in a zigza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or enter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ber tape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ness of fl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ne of the staircases, I met the physician of the family.  He accosted me with trepidation and passed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her arose from a sofa and greets the narrator with vivacious warm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30:45Z</dcterms:created>
  <dc:creator>Cobb County School District</dc:creator>
  <dc:description/>
  <dc:language>en-US</dc:language>
  <cp:lastModifiedBy>install</cp:lastModifiedBy>
  <dcterms:modified xsi:type="dcterms:W3CDTF">2009-11-16T13:06:51Z</dcterms:modified>
  <cp:revision>4</cp:revision>
  <dc:subject/>
  <dc:title>Single Effect</dc:title>
</cp:coreProperties>
</file>